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141-01A9-4842-8D70-3DD21DBA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8E9-641A-4B16-B876-C8FD251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513-2EB3-4B21-959A-E80E0F05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87A-97DF-4A53-8D50-80C000FA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F48-1EA0-4DA8-B14B-DA2B1EF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4C8-2642-4A67-85E2-C6402E2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586-CC49-41E8-84A2-2ABF455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BA7-E1E0-48B9-8A71-A03CB465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6BF-8752-457A-9712-77C7217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D84-D054-4ECB-8A47-22B8E6E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C83-7E96-487C-B53C-EA5899E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B8B-DED3-43A2-B7A9-B9A4E7E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2F6-FB72-48B4-8B3B-6C38B2DF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9:49:04Z</dcterms:modified>
  <cp:revision>1</cp:revision>
  <dc:subject/>
  <dc:title>Powerpoint </dc:title>
</cp:coreProperties>
</file>